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78A9-FB97-4149-807A-EC7D457C8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gure added ,a moral texture; the character of the dandy was heavily autobiographical and often a stand-in  for Wilde himself, a witty, overdressed, self-styled philosopher who speaks in epigrams and paradoxes, ridicules the cant and hypocrisy of society’s moral arbiters, and self-deprecatingly presents himself as trivial, shallow, and ineffectual.  In fact, the dandy in these plays always proves to be deeply moral and essential to the happy resolution of the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e had ability to produce “spontaneous sparkling conversation and witty remarks.”  Often topic of many literary circl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orm bills reduced the power fo upper-class landowners by redistributing parliamentary representation.  Demonstrated that social change could take place peacefully, without violence, marked emergence of middle class as dominate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1840s – known as The Hungry Forties because so many people were literally starving. Economic conditions led to  protest and rioting.  Lower classes suffered from potato blight in Ireland in 1845 &amp; from Corn Laws – import tariffs that protected price of grain for English farmers but mad price of bread and other foods very high.  Repeal of Corn Laws in 1846, establishment of Free Trade moved England towards greater prosperity &amp; living conditions that characterize the later years of Victorian Age.  Real wages did not keep up with price of urban living. Along with repeal of Corn Laws and the development of the railroad in 1850, England emerged from the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repression –  terms “dark &amp; white” meat used to avoid “breasts &amp; thig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etiquette very strict; manners, etc.  (upper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associated with material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rested for distributing information about sexually transmitted diseases. Double standards for sexes:  adulterous women (but not male counterparts) seen as “fall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es, cruelties, and hypocrisies of all these repressions were obvious to Victorians.  But the codes and barriers fo decorum changed slowly because they were part of the ideology of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udery and social order were intended to control licentiousness that the Victorians associated with political revolutions of the 18</a:t>
            </a:r>
            <a:r>
              <a:rPr b="0" lang="en-US" sz="1200" spc="-1" strike="noStrike" baseline="30000">
                <a:solidFill>
                  <a:srgbClr val="000000"/>
                </a:solidFill>
                <a:latin typeface="Arial"/>
              </a:rPr>
              <a:t>th</a:t>
            </a:r>
            <a:r>
              <a:rPr b="0" lang="en-US" sz="1200" spc="-1" strike="noStrike">
                <a:solidFill>
                  <a:srgbClr val="000000"/>
                </a:solidFill>
                <a:latin typeface="Arial"/>
              </a:rPr>
              <a:t> Century and the social corruption of the regency of George 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23A34-F58D-4CEE-B873-5A3C06057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02DDD-7204-4CAF-B49A-4CFB33C7F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29394-4A8B-4354-819F-C225B86CB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D7000-8747-4687-9D3C-E62EFEAA1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C44C4-9211-44AF-A187-86EA94C7B4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C0BE9-F862-47C6-B7F7-9319B9DD4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1301E-BB6D-45E0-882C-F14992AB9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8923D-9E39-41BE-9F78-898183EFD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48AB2-8678-4EE8-B5A6-B95D66B29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85EAC-4162-433C-B0B4-CBA874C34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8BDE4-D8AC-4C57-BEE0-938372BE4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474B6-4CC6-40AE-A36D-434E0D60B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1A3CA-75EF-4794-81DD-E1721EFDE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DED52-5270-4DC7-96CF-863A5840B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1B618-B0F9-425D-BB69-1ECE67DA7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13848-CCF2-4442-8CB2-35FC9EE85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FB0EC-A93C-4313-AC8A-99F597E43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16DCC-4467-45F2-8EE5-D23BA6E36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CC8C1-965B-43C8-823D-9990457E5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4D2F6-F434-4007-822C-8E860F387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00398-2BF1-4932-BA42-0A5DC2510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36E4B-EA8C-4CB6-BC4C-C5D71732A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8161C-4850-4005-9E79-CD146141A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D039B-05F6-4D26-8FB9-35B2D122E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15E0-AB5B-48E9-A39C-13B50259FF8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44E7-8122-4EE9-A958-34905A724BD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Victorian Period</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32-1900</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ctorian writing reflects the dangers and benefits to rapid industrialization, while encouraging readers to examine closely their own understanding of the era’s progres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in Dublin; father physician; mother writer (poetry/prominent figure in Dublin literary society)</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celled in classical literature (Trinity C.)</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olarship to Magdalen College (Oxford)</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mous for brilliant conversation &amp; flamboyant manner of dress &amp; behavior</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Dandy” figure based himsel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 of “aesthetic movement” – which rejected older Victorian insistence on moral purposed of ar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ebrated value of “art for art’s sak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tled in Londo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cked Victorian notions about moral seriousness of great ar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ated art as the “supreme reality” and treated life as “fi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 Importance of Being Earnest</a:t>
            </a:r>
            <a:r>
              <a:rPr b="0" lang="en-US" sz="3200" spc="-1" strike="noStrike">
                <a:solidFill>
                  <a:srgbClr val="ffffff"/>
                </a:solidFill>
                <a:latin typeface="Tahoma"/>
              </a:rPr>
              <a:t> (produced 1895) most famous comed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cated plot turns upon fortunes and misfortunes of two young upper-class Englishmen: </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hn Worthing and Algernon Moncrieff</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lives double life; creates another personality to escape tedious social/family obligations</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ot composed of events of the most improbable &amp; trivial signific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 substance of play witty dialogu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ording to Wilde, trivial things should be treated seriously and serious things should be treated triviall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tle based on satirical double meaning:  “Ernest” is the name of fictitious character, also designates sincere aspir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ing the “earnestness” of his Ernest the key to outrageous comedy, Wilde pokes fun at conventional seriousnes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s solemn moral language to frivolous and ridiculous ac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 Importance of Being Earnest</a:t>
            </a:r>
            <a:r>
              <a:rPr b="0" lang="en-US" sz="3200" spc="-1" strike="noStrike">
                <a:solidFill>
                  <a:srgbClr val="ffffff"/>
                </a:solidFill>
                <a:latin typeface="Tahoma"/>
              </a:rPr>
              <a:t> uses the following literary devic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dox:  seems contradictory but presents trut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erted logic:  words/phrases turned upside down reversing our expecta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n:  play on words using word or phrase that has two meaning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terary Devices continued</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igram:  brief, witty, cleverly-expressed statement</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ody:  humorous mocking imitation of literary work</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tire: ridicules through humor</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ony:  something you don’t expect to happen</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eshadowing:  creates suspense through hints to the end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medic Ladd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edy of Ideas (high comedy)</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acters argue about ideas like politics, religion, sex, marriage.</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use wit, their clever language to mock their opponent in an argument.</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subtle way to satirize people and institutions like political parties, governments, churches, war, and marriage.</a:t>
            </a:r>
            <a:endParaRPr b="0" lang="en-US" sz="24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edy of Manners (high comed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lot focuses on amorous intrigues among the upper class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dialogue focuses on witty language.  Clever speech, insults and “put-downs” are traded between character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ety is often made up of cliques that are exclusive with certain groups as the in-crowd, other groups (the would-be-wits, desiring to be part of the witty crowd) and some (the witless) on the outside.</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en Victoria took throne in 1837 (at 18)</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 reign, died in 1901 (at 82)</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land became wealthiest nation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tish Empire expansion </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e sun never sets on England.”</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Queen-empress over 200 million people living outside Great Britain</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a, North America, South Pacific, etc.</a:t>
            </a:r>
            <a:endParaRPr b="0" lang="en-US" sz="2800" spc="-1" strike="noStrike">
              <a:solidFill>
                <a:srgbClr val="ffffff"/>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rce (can be combination of high/low)</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lot is full of coincidences, mistimings, mistaken identit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acters are puppets of fate – they are twins, born to the wrong class, unable to marry, too poor, too rich, have loss of identity because of birth or fate or accident, or are (sometimes) twins separated, unaware of their doubl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 Comed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jects of the humor consists of dirty jokes, dirty gestures, sex, and elimin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xtremes of humor range from exaggeration to understatement with a focus on the physical like long noses, cross eyes, humped back and deformitie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hysical actions revolve around slapstick, pratfalls, loud noises, physical mishaps, collisions – all part of the humor of man encountering and uncooperative univers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ustrial Revolution - booms &amp; depression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d new towns, goods, wealth, jobs for people climbing through middle clas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cial &amp; economic changes expressed in gradual political reform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Reform Bill in 1832 extended vote to all men who owned property worth 10 lb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Reform Act in 1867 gave the right to vote to working-class men (except agricultural work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men for suffrage – did not succeed until 1918 (30 &amp; over)</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versal adult suffrage 1928 extended vote to women at age 21</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ory Acts – limited child &amp; women labor</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 supported schools est. in 1870; compulsory in 1880; free in 1891</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teracy rate increased from 40% to 90% from 1840-1900.</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adox of progres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ctorian – synonym for prude; extreme repression; even furniture legs had to be concealed under heavy cloth not to be “suggestive”</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ideas discussed &amp; debated by large segment of socie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racious rea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llectual growth, change and adjust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orum &amp; Authority – Victorians saw themselves progressing morally &amp; intellectual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erful middle-class obsessed with “gentility, decorum” = prudery/Victorianism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sorship of writers: no mention of “sex, birth, or dea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orum – powerful ideas about authority</a:t>
            </a:r>
            <a:endParaRPr b="0" lang="en-US" sz="32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ctorian private lives – autocratic father figure</a:t>
            </a:r>
            <a:endParaRPr b="0" lang="en-US" sz="28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men – subject to male authority</a:t>
            </a:r>
            <a:endParaRPr b="0" lang="en-US" sz="28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ddle-class women expected to marry &amp; make home a “refuge” for husband</a:t>
            </a:r>
            <a:endParaRPr b="0" lang="en-US" sz="28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men had few occupations open to them</a:t>
            </a:r>
            <a:endParaRPr b="0" lang="en-US" sz="28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married women often portrayed by comedy by male writ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llectual Progres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standing of earth, its creatures &amp; natural laws (geology, Darwin – theory of evolu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ustrialization of England depended on and supported science and technolog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erialism, secularism, vulgarity, and sheer waste that accompanied Victorian progress led some writers to wonder if their culture was really advancing by any measure.</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st in transcendental power gave way to uncertainty &amp; spiritual doubt. </a:t>
            </a:r>
            <a:endParaRPr b="0" lang="en-US" sz="3200" spc="-1" strike="noStrike">
              <a:solidFill>
                <a:srgbClr val="ffffff"/>
              </a:solidFill>
              <a:latin typeface="Tahoma"/>
            </a:endParaRPr>
          </a:p>
          <a:p>
            <a:pPr lvl="1" marL="735480" indent="-282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te Victorian writers turned to a pessimistic exploration of the human struggle against indifferent natural forces.</a:t>
            </a:r>
            <a:endParaRPr b="0" lang="en-US" sz="2800" spc="-1" strike="noStrike">
              <a:solidFill>
                <a:srgbClr val="ffffff"/>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1:05:20Z</dcterms:created>
  <dc:creator>User</dc:creator>
  <dc:description/>
  <dc:language>en-US</dc:language>
  <cp:lastModifiedBy>User</cp:lastModifiedBy>
  <dcterms:modified xsi:type="dcterms:W3CDTF">2007-04-16T16:08:24Z</dcterms:modified>
  <cp:revision>9</cp:revision>
  <dc:subject/>
  <dc:title>Victorian Period</dc:title>
</cp:coreProperties>
</file>